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4A9-B572-4E8C-B783-4206DDE1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DD1-DA16-4C17-9F9A-409E4B5F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F23-C9F1-4015-9230-B8E5B04E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FAA-AE50-4493-98F9-543CCB88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1822-B52B-4E74-8149-A70E62C0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5754-DFDD-45C7-978F-E5CED952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2D26-57A1-4567-B202-F2C1EB44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6E7F-EFC1-4E7C-B530-CD650B98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D0B4-DFEB-4929-BB53-9CCA3398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5DAD-9A99-4987-8EBF-F5141704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08BF-25FC-43CC-94C1-BEB96467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36C8-EDEE-4A53-8181-B7B8E1D6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F0BE-3D6C-4FF3-BA5A-A08388C9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A200-7EF8-42F2-B7B5-FD8F76D1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3640-D9FF-4E81-8C02-865D03D3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9BF8-3ADC-43E7-AAFB-FDAFDAE8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32D0-B8B1-49DF-92EB-F563B81A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AA5-8781-4D81-AC61-75065C4D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BA8-404D-4D54-BE74-902CA00D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632-D664-43DA-8DEE-89F7814F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ACD-813F-414D-A67C-754AC38B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A8A-CD02-4243-A8AF-B8E82A29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E88-A94C-46F2-A9FB-30769AEB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F3C-9B52-425E-9D0B-81A62706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4329-4297-4A1C-8A26-D93F51951D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6E7B-7836-42B0-BD1C-03CCEEFD14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The Enlightenmen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880" y="453348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eorists and Theorie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Beccaria &amp; Wollstonecraf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38102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Italian, focused on law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Punishment should fit the crime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No torture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Speedy trial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(Bill of Rights)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29200" y="1523880"/>
            <a:ext cx="35812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English activist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Women should fight to be politicians and scientist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Women’s groups start in England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Popular in salon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onnection to French Revolution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omas Paine: Rights of Man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Equality under the law, freedom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Greatest time of intellec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Create true reform based on knowledge of human nature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Middle class/intelligentsia challenge traditional roles and custom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Farewell to King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hurch is part of problem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9250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Create an eight person bracket of philosophers and explain who wins each round and why.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12" name="Picture 7" descr="http://www.boncherry.com/blog/wp-content/uploads/2011/03/ncaa-march-madness-2011-bracket-500x388.png"/>
          <p:cNvPicPr/>
          <p:nvPr/>
        </p:nvPicPr>
        <p:blipFill>
          <a:blip r:embed="rId1"/>
          <a:stretch/>
        </p:blipFill>
        <p:spPr>
          <a:xfrm>
            <a:off x="2057400" y="2955960"/>
            <a:ext cx="50292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Political Spectrum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70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707"/>
                </a:solidFill>
                <a:latin typeface="Times New Roman"/>
              </a:rPr>
              <a:t>Conservative: maintain the status quo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1070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707"/>
                </a:solidFill>
                <a:latin typeface="Times New Roman"/>
              </a:rPr>
              <a:t>Trait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1070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7"/>
                </a:solidFill>
                <a:latin typeface="Times New Roman"/>
              </a:rPr>
              <a:t>Wealthy or powerful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1070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7"/>
                </a:solidFill>
                <a:latin typeface="Times New Roman"/>
              </a:rPr>
              <a:t>Benefit from current system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1070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7"/>
                </a:solidFill>
                <a:latin typeface="Times New Roman"/>
              </a:rPr>
              <a:t>Morally tied to the current regime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1070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7"/>
                </a:solidFill>
                <a:latin typeface="Times New Roman"/>
              </a:rPr>
              <a:t>Value items based on usefulness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15" name="Picture 5" descr="pro-life"/>
          <p:cNvPicPr/>
          <p:nvPr/>
        </p:nvPicPr>
        <p:blipFill>
          <a:blip r:embed="rId1"/>
          <a:stretch/>
        </p:blipFill>
        <p:spPr>
          <a:xfrm>
            <a:off x="0" y="4724280"/>
            <a:ext cx="1641600" cy="2133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11_marriage"/>
          <p:cNvPicPr/>
          <p:nvPr/>
        </p:nvPicPr>
        <p:blipFill>
          <a:blip r:embed="rId2"/>
          <a:stretch/>
        </p:blipFill>
        <p:spPr>
          <a:xfrm>
            <a:off x="7265880" y="4038480"/>
            <a:ext cx="1878120" cy="2819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InGodWeTrust1"/>
          <p:cNvPicPr/>
          <p:nvPr/>
        </p:nvPicPr>
        <p:blipFill>
          <a:blip r:embed="rId3"/>
          <a:stretch/>
        </p:blipFill>
        <p:spPr>
          <a:xfrm>
            <a:off x="3962520" y="4572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Liberal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ek change or reform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upport programs to help the less fortunate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axes used for common good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ght for individual rights and freedoms over security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Representative governmen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upport labor and worker group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0" name="Picture 5" descr="Gay%2520Rights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freespeech"/>
          <p:cNvPicPr/>
          <p:nvPr/>
        </p:nvPicPr>
        <p:blipFill>
          <a:blip r:embed="rId2"/>
          <a:stretch/>
        </p:blipFill>
        <p:spPr>
          <a:xfrm>
            <a:off x="6095880" y="5167440"/>
            <a:ext cx="3048120" cy="16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homepic"/>
          <p:cNvPicPr/>
          <p:nvPr/>
        </p:nvPicPr>
        <p:blipFill>
          <a:blip r:embed="rId3"/>
          <a:stretch/>
        </p:blipFill>
        <p:spPr>
          <a:xfrm>
            <a:off x="0" y="5340240"/>
            <a:ext cx="16002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Moderat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omeone who takes a middle position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Weigh each decision separately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Possibly share both conservative and liberal idea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Agree/Disagre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620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In nature, man is good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A persons freedom of speech should not be hindered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e death penalty is an acceptable form of punishmen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e universe is bound by laws (Sci. &amp; Math), making human comprehension possible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Having multiple political parties benefits a government/society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Enlightenmen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66320" y="1523880"/>
            <a:ext cx="72392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Age of Reason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Philosophy and theory becomes the focu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Liberation of thought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Existence is rationalized via scientific method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Leads to political reform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Rights &amp; Republic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Thomas Hobbes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English monarchis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People are evil and selfish (war)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ocial Contract – Government cages the human beas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Wrote Leviathan, supports monarchy in the English Civil War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90" name="Picture 5" descr="Thomas%2520Hobbes%25202"/>
          <p:cNvPicPr/>
          <p:nvPr/>
        </p:nvPicPr>
        <p:blipFill>
          <a:blip r:embed="rId1"/>
          <a:stretch/>
        </p:blipFill>
        <p:spPr>
          <a:xfrm>
            <a:off x="6951600" y="4343400"/>
            <a:ext cx="1960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John Lock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69343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English philosopher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abula rasa: people are blank slates to be written on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People choose their government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Life, liberty, and property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Declaration of Independence is based on his idea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93" name="Picture 5" descr="locke-john"/>
          <p:cNvPicPr/>
          <p:nvPr/>
        </p:nvPicPr>
        <p:blipFill>
          <a:blip r:embed="rId1"/>
          <a:stretch/>
        </p:blipFill>
        <p:spPr>
          <a:xfrm>
            <a:off x="7153200" y="0"/>
            <a:ext cx="19908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Jean-Jacques Rousseau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69343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rench theoris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People are born good but are corrupted by the vices of society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ocial contract: government functions for the greatest good, people vote to direct i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Used as a support for the French Revolution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96" name="Picture 5" descr="Rousseau"/>
          <p:cNvPicPr/>
          <p:nvPr/>
        </p:nvPicPr>
        <p:blipFill>
          <a:blip r:embed="rId1"/>
          <a:stretch/>
        </p:blipFill>
        <p:spPr>
          <a:xfrm>
            <a:off x="7315200" y="0"/>
            <a:ext cx="1635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Montesquieu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1629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Idealizes British governmen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ree branch system (checks &amp; balances)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Impacted the Constitution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99" name="Picture 5" descr="Montesquieu"/>
          <p:cNvPicPr/>
          <p:nvPr/>
        </p:nvPicPr>
        <p:blipFill>
          <a:blip r:embed="rId1"/>
          <a:stretch/>
        </p:blipFill>
        <p:spPr>
          <a:xfrm>
            <a:off x="6240600" y="3733920"/>
            <a:ext cx="2903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Philosophes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rench philosopher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ore belief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Reason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Liberty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Voltair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7086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riticizes aristocracy, government and clergy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Wrote </a:t>
            </a:r>
            <a:r>
              <a:rPr b="0" i="1" lang="en-US" sz="3200" spc="-1" strike="noStrike">
                <a:solidFill>
                  <a:srgbClr val="09817e"/>
                </a:solidFill>
                <a:latin typeface="Times New Roman"/>
              </a:rPr>
              <a:t>Candide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ght for freedoms: speech, religion, protes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Impacted Bill of Rights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4" name="Picture 5" descr="voltaire-face"/>
          <p:cNvPicPr/>
          <p:nvPr/>
        </p:nvPicPr>
        <p:blipFill>
          <a:blip r:embed="rId1"/>
          <a:stretch/>
        </p:blipFill>
        <p:spPr>
          <a:xfrm>
            <a:off x="6230880" y="3886200"/>
            <a:ext cx="2913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3:10:26Z</dcterms:created>
  <dc:creator>Robert Kuenzi</dc:creator>
  <dc:description/>
  <dc:language>en-US</dc:language>
  <cp:lastModifiedBy>Technology Department</cp:lastModifiedBy>
  <dcterms:modified xsi:type="dcterms:W3CDTF">2013-03-18T14:29:28Z</dcterms:modified>
  <cp:revision>15</cp:revision>
  <dc:subject/>
  <dc:title>The Enlighten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51033</vt:lpwstr>
  </property>
</Properties>
</file>